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729-BF8A-46AF-AF8B-376E4185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27D-6371-4D67-8713-18DF320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D37-1656-49F3-A2CC-740BB052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BD9-3E61-42AC-AC51-FC074C79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1EC-99A0-42D7-9F34-A128B271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04B6-ECAC-4487-A94E-20FEB4C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FD49-1B12-44B0-AD46-EFF829C6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36B2-7A99-438B-B79B-B068A348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5DE0-E1ED-4C4E-91C7-9FB9E3E9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EBF-83AB-4693-A3D8-DEEECC1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D276-9A1C-4F15-8D0E-35AFE28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E22-B0C1-4542-9E82-4DF56021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C93-506A-4324-B3DB-DE8D10D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230F-D2FE-4854-91E6-60111D9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38BD-038E-41D4-A00C-52C4F62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06AB-3B16-4C81-BE89-F7ECEC93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2F12-D861-4170-8DD9-5CFCD53A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D7C-53BD-40D8-BDB8-BD0AE2A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D25-89F4-4BB3-95C2-D42F9804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0F3-BADA-4C45-BEA6-7EB41AD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D0F-8F58-4BC2-9F24-3AF2285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116-836B-4A50-85C3-933B0F7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8FF-02A0-4904-A356-86BA7173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0A7-DA76-424D-9E90-879DD8A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D41D-3E31-491F-8A0A-48C54F1E5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370-5012-467A-8302-7FC2BDFD29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page Design with Dreamwea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ise 2 – Final Prod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863720"/>
            <a:ext cx="64008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4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copy files from the “Instructors Area”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will be copying the files through Dreamweaver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up Dreamwea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r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Program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obe Design Premium CS3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acromedia Dreamweaver C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34160" y="5410080"/>
            <a:ext cx="714240" cy="107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52960" y="5562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24800" y="4405320"/>
            <a:ext cx="771480" cy="928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296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85716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3600" y="3657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05720" y="2743200"/>
            <a:ext cx="914400" cy="87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52960" y="2895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781680" y="1828800"/>
            <a:ext cx="70020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52960" y="1905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File Structur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76720" y="3505320"/>
          <a:ext cx="5760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505320"/>
                    <a:ext cx="57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228600" y="3537000"/>
            <a:ext cx="2303640" cy="730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38280" y="36576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657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733920"/>
            <a:ext cx="609840" cy="1522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981080"/>
            <a:ext cx="152280" cy="381024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00600" y="3533760"/>
          <a:ext cx="503280" cy="7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533760"/>
                    <a:ext cx="503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page Design with Dreamweaver CS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-of-the-art Webpage Desig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many advanced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cover basic ones in this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it free from Geblabs to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CB10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 (unmarked) and 1 exercise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Dreamweaver (DW)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and remove “sit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use the WYSIWYG interface to generate 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reamweav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Sit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lets you set up multipl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called “Sit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” refers to “web site”, which can be made up of more than 1 webpag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ways to create a “Site” in D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startup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“Site” Menu 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“File Pan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Startup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84644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“Site” Menu B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1437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“File Panel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143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3 – Final Prod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24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5T10:18:58Z</dcterms:modified>
  <cp:revision>59</cp:revision>
  <dc:subject/>
  <dc:title>CS 473a &amp; 551a Requirements Engineering</dc:title>
</cp:coreProperties>
</file>