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5D8-48A2-4CC3-BBA3-39AA766E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96F-CE0D-46F7-A67E-F0FF6DF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AB5-4103-41E4-8BE0-93EAA86A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05A-CCAF-45C9-8004-54F0FD6F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0B5E-A6A7-4E63-A03C-6607E474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116E-FC07-4C38-8B58-4B4642C8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89D3-89E1-4ABF-B3A6-7423C8F3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23E0-22CD-41A7-ABAF-4475E2C6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F380-069F-41FF-9579-0F111C3E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19BD-A298-4493-B842-8AE828EC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8416-E7E5-4E5D-A3D7-3EF26FC1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011-8390-46C0-9A4F-BB79631B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2422-095F-4CB6-9113-9E925306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0068-C935-44A7-87D2-6F2C108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D49E-1048-45F4-9616-067F9E70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3BC-47EC-4D5B-8AE8-9EB1F474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E89A-7E5B-4955-A046-FF75D2A9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A83-2EB9-4405-A952-5F72F50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254-6A2D-4BC4-A1C9-B0E5182C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D1C-D5A4-4012-8F9D-0480892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62B-9D24-4737-B469-AD092CB8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272-4868-41AA-866C-1A939BB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4A6-5FDE-4FC3-AE00-3A46E2C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657-762B-4969-B0DA-2725044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E6EE-40A3-4F7E-B92C-C4DD85764B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0A4B-984D-46CF-B052-C834EF44B0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audacity.sourceforge.ne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429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und Editing with Aud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REE, advanced sound edi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platform: Windows, Linux, MacOS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reate/edit/modif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MP3, Ogg Vorbis, and WAV sound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, copy, splice, mix sound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speed or pitch of reco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download the software from</a:t>
            </a:r>
            <a:br>
              <a:rPr sz="2400"/>
            </a:b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audacity.sourceforge.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371600" y="554040"/>
            <a:ext cx="27432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tutorials (#3 is 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udacity projects and exporting to WAV, MP3, SWV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ap tracks to create a single tr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s: fade in/out, amplif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bed sound into a web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dphone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 few extra headphones are available from your 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one, sign your name on the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you’re done the lab, erase your name from the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efore you start, set up your headphones and ensure they are working correctl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page 2 in the tuto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Q: Where’s the Zoo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2133720"/>
          <a:ext cx="8458200" cy="28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lreid</cp:lastModifiedBy>
  <dcterms:modified xsi:type="dcterms:W3CDTF">2008-09-15T15:15:25Z</dcterms:modified>
  <cp:revision>71</cp:revision>
  <dc:subject/>
  <dc:title>CS 473a &amp; 551a Requirements Engineering</dc:title>
</cp:coreProperties>
</file>