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324-C2D9-4E9F-BD85-5CB60D08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8DE-B5E8-4D11-8F84-CAC052ED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C44-1294-4FD1-9026-21D3696B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AAD-6C56-4FAA-AC8B-AB4A3BAA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0983-C1DC-426F-9600-9A1A1E5F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F6FD-DE0F-492C-8FDC-F050E6F0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33E2-9A3A-47A6-984B-B5280BEE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AD3D-2606-4C45-B694-495FED0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3EE-0EC6-45F2-B1DC-D7BC7623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77A-5CAC-407E-B55F-0C78F7B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BA73-8570-4FD7-86F0-B3C017C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89B-540B-430F-B966-3F4676F3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0859-7068-4204-A7F2-05CCBD2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95CD-B033-4B50-944D-E5D2ECD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6003-0899-4A6B-95CD-BBC177C1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12B-A815-4DBC-8C82-6443795B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A85-C1B6-4F5F-930B-03A09B02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D24-760D-4F2A-B260-E37F11D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F7A-D86D-462C-892E-CB611612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FFB-55D6-487B-9CE1-39CEB34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53C-E71C-493E-8E8C-009CBDF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C64-7EE2-42E7-9EEA-0770F3E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ECF-036B-4A08-8F40-5BB5DAC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B72-63D1-41F9-8508-8F941EB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97B-F29F-4FBB-BF73-B1C283213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026-B724-44FB-B943-7B68733922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un with Anim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Flash part 2 of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3 tutorials (all are 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more realistic an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better control over th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y organized: Layer Folders and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Symbols can make other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Movie Clip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Video Clips and Movie Clip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 with some really fun effec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me “Marker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2900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248520" y="4118040"/>
            <a:ext cx="2328840" cy="91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306396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blank (uncolored) rectangle indicates ther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no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048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empty keyfram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white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04812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keyframe that conta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object (black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0292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last empty frame of a layer (white rectang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50292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tween is represented by an ar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0292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shes indicate a broken tween (missing keyframe or objec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6668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00560" y="2638440"/>
            <a:ext cx="304560" cy="304920"/>
          </a:xfrm>
          <a:prstGeom prst="donut">
            <a:avLst>
              <a:gd name="adj" fmla="val 109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00640" y="2847960"/>
            <a:ext cx="304920" cy="304920"/>
          </a:xfrm>
          <a:prstGeom prst="donut">
            <a:avLst>
              <a:gd name="adj" fmla="val 104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81280" y="4600440"/>
            <a:ext cx="304920" cy="304920"/>
          </a:xfrm>
          <a:prstGeom prst="donut">
            <a:avLst>
              <a:gd name="adj" fmla="val 11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52960" y="43578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43434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26T01:52:11Z</dcterms:modified>
  <cp:revision>78</cp:revision>
  <dc:subject/>
  <dc:title>CS 473a &amp; 551a Requirements Engineering</dc:title>
</cp:coreProperties>
</file>