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53B-307C-41C3-B5F8-653EAD4B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43A-1ECC-4801-B07B-58AFAA7B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251-90D0-495B-8B80-8061B9D3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A1F-31A7-4608-BF62-3A36064B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DD68-4E0A-4AE7-85C4-6232672E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2FD4-958B-4712-865C-F920BEE3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67A2-09A5-4863-882F-3A684EE1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23ED-6C2D-4A09-B306-F9067624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AC7D-6F32-4A44-B160-735A433E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2081-EEBF-4F7B-A295-8A76E443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A275-8461-4E74-A9B8-F68C559E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94D-63AA-49C1-B95F-867E4615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0360-A7A4-4FC9-89F6-EE38839B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E9FB-0B2C-4A11-947F-462FBBDC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0038-BF97-4C98-8879-8E3B5DA7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1362-C095-4D9F-94EA-D164EE17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5F09-DAB5-4A26-8D8C-A263BADD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0A8A-9CC3-47E2-AD82-412A515A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905-3CA2-4E62-9B1B-A80EDC32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C6A-9278-4883-9863-36F69B24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6D9-F7CF-4917-B773-E4D159BB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306-51EB-456D-84B1-CF75D86F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EA3-D239-4B6F-8D19-6A3303A8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A9D-D199-4C58-8F75-8991C93C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2431-2938-4263-B0F7-C77F15391E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92B3-DEC7-491C-89D5-994CF37220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 Tutorial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reamweaver, part 3: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ebpage Tables and Image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6118200" cy="670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934320" y="2286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orial2_Do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utorial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7816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up of 2 tutorials (mark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lab,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up a table-based web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with table and cell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buttons/links using 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with ‘rollover’ link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ouseovers causing “image substituting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les: Columns, Rows, Cell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54200" y="3733920"/>
          <a:ext cx="5523120" cy="2361960"/>
        </p:xfrm>
        <a:graphic>
          <a:graphicData uri="http://schemas.openxmlformats.org/drawingml/2006/table">
            <a:tbl>
              <a:tblPr/>
              <a:tblGrid>
                <a:gridCol w="1841040"/>
                <a:gridCol w="1840680"/>
                <a:gridCol w="1841400"/>
              </a:tblGrid>
              <a:tr h="78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2590920" y="27432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lum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7432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lum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274320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lum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886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ow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6623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ow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424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ow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39625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7242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48640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les: Merging Ce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54200" y="3733920"/>
          <a:ext cx="5523120" cy="2361960"/>
        </p:xfrm>
        <a:graphic>
          <a:graphicData uri="http://schemas.openxmlformats.org/drawingml/2006/table">
            <a:tbl>
              <a:tblPr/>
              <a:tblGrid>
                <a:gridCol w="1841760"/>
                <a:gridCol w="1839600"/>
                <a:gridCol w="1841760"/>
              </a:tblGrid>
              <a:tr h="78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590920" y="27432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lum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27432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lum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274320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lum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343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erged” Cells 1,4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45720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4191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ested” Table in Cel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les: Nested T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554200" y="3733920"/>
          <a:ext cx="5523120" cy="2361960"/>
        </p:xfrm>
        <a:graphic>
          <a:graphicData uri="http://schemas.openxmlformats.org/drawingml/2006/table">
            <a:tbl>
              <a:tblPr/>
              <a:tblGrid>
                <a:gridCol w="1841760"/>
                <a:gridCol w="1839600"/>
                <a:gridCol w="1841760"/>
              </a:tblGrid>
              <a:tr h="78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828800" y="46483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452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ested” Table: a table within a t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666880" y="3962520"/>
          <a:ext cx="1523520" cy="2019240"/>
        </p:xfrm>
        <a:graphic>
          <a:graphicData uri="http://schemas.openxmlformats.org/drawingml/2006/table">
            <a:tbl>
              <a:tblPr/>
              <a:tblGrid>
                <a:gridCol w="152352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ll “Padding”, “Spacing”,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le “Border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2096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with 2 rows, 2 columns (4 cell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76520" y="2668680"/>
            <a:ext cx="586728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le “Width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set the “main” table width to 780p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ant our page viewable in 800x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the most common browser sett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page will still look good in 1024x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torial 6 – Next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477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the lab 06 material from the Instructor’s Area 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to your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Z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W, create a site called “Cross Company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” it to the folder “cross_compan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320" y="109440"/>
            <a:ext cx="6738840" cy="6715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934320" y="2286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ex.htm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utorial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Cole</cp:lastModifiedBy>
  <dcterms:modified xsi:type="dcterms:W3CDTF">2007-08-06T06:50:45Z</dcterms:modified>
  <cp:revision>63</cp:revision>
  <dc:subject/>
  <dc:title>CS 473a &amp; 551a Requirements Engineering</dc:title>
</cp:coreProperties>
</file>