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9A9-7642-4978-B82F-74DBD44D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A42-515D-467C-AD18-0BEFBCC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96C-F06B-4ED0-B0B3-279A4181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7F4-B19A-4B21-9744-CA3D72DD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01B2-64DB-4EF4-98EE-16895F7C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8357-7A5D-462E-890B-329F98DB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0E0C-42DB-4087-BE51-06DD7D99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3578-6039-4A02-A661-E536360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373E-5095-4A8C-834A-65DE42DE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1804-1FFE-4067-9276-50EDC3E6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082D-B5E1-4B52-80F0-EE0D368F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B89-C1EF-42AE-9FA4-D78D270F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77A2-C352-460C-9963-B0C7381B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06C5-0316-41A3-8DE8-4EF26536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E083-ACD3-4B8B-A81F-A63ADAED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C5BA-D786-4E87-82E9-D9579565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0AA7-F578-462C-9B54-7EC06830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A0A-9F46-470C-B1B7-8964CF07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594-3CAA-43EC-B4E4-A5274011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48E-CB0F-4EFB-94A3-FC545FAF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E32-C919-4D80-95EB-CAC846D8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1F8-7F45-4BB7-9D69-769BA2F9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608-E13F-4363-9C57-68DD49D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6EA-3D74-439A-9A37-5065658F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E645-F4AF-4317-8CCF-5845C0C59D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A15A-9DD5-4C72-B0DE-A3882C759E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torial 3 –Image Editing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s more “advanced” concep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ating/Fli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r”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489040"/>
            <a:ext cx="45720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imposing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ing a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ng part of a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st by Layer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4 Exerci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2 pages of the tutorial shows end product for each exer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 to it during the exercis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ersio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-and-white printouts wont show you the colors properl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17800"/>
            <a:ext cx="69343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1. If you can’t see all of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oom in or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gnifying glass too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oom in= left click; Zoom out=Alt + cli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2. SAVE FREQUENTL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3. When “Undo” isn’t enoug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History T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you undo anything since file was ope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 3 Tip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Tab: “Advanced Undo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35268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00364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19320" y="1905120"/>
          <a:ext cx="761976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61976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Tab: “Advanced Undo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35268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500364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1905120"/>
          <a:ext cx="746748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4674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Note - Photosh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s to do something in Photo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tutorials only cover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hotoshop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more tutorials available on the Internet (Google them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can’t figure out how to do something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your TA!!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3 –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out the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the folder “lab03” from the “Instructors Area” to your Z:\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ors Area: Set up as “L:\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luck!!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7-31T04:32:39Z</dcterms:modified>
  <cp:revision>50</cp:revision>
  <dc:subject/>
  <dc:title>CS 473a &amp; 551a Requirements Engineering</dc:title>
</cp:coreProperties>
</file>