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CB8F-45E0-447C-B2E7-61ABCC060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08F2-AE2A-4B07-8232-ED7CCBEB1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C418-FC78-459A-9E44-36E374590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4666-1AC6-4135-A4F4-CAD8F8CDA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1A3AA-A62A-4A4D-831B-F5FA1F3AE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D504F-06EB-439D-A313-3B66431AB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2ABA4-725F-4417-9D31-0FF7D30CE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076C5-B29B-4C48-961C-EB4995F92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A4215-05F5-4847-9BDB-B4CC1061F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E0B81-21BE-4181-9E83-193B9F448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AAE79-B7F9-4ECD-B0A2-9E0C1074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2B27-C899-46C9-BAAB-DBFEDF781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9BD8A-223B-4A6D-A356-1495CC9C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EA9C3-5C83-48B2-B4B6-4B3AFA00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73BE5-FCF1-4548-AEB3-C36205598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9F142-A23C-4F63-97E4-927441DCC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5B681-66B6-4849-894E-3CF8A5490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8E19-01F4-46E3-AA14-05B782750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412C-7F7F-48E8-BAB5-AA825AA71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6120-77D5-4B30-B85B-791727EBB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DBAC-EDC3-42C2-8831-437C63C8F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D113-0255-4C48-A723-902B8762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3CD0-1721-47D0-A746-20509495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61BA-600B-4ABD-839E-13FFAE35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E6A6-1570-4395-977A-12EBD4F0CF8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11D4E-4B2E-441E-BD53-405A3861837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kssidhu@uwo.ca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CS033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3429000"/>
            <a:ext cx="7772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utorial 1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SH and Website “Publishing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-FTP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3124080"/>
            <a:ext cx="64771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s actuall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grams in 1!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hell Client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an type in commands by h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t its in Unix, so we’ll stay away from it as much as possib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File Transfer Client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hat we will use to actually transfer files to Pan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ust like moving a file from one folder to another in Window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514600" y="2057400"/>
            <a:ext cx="279072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ting Permiss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63244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ry time we put a new file on Panther, it is “locked” so only we can access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we want to make our files so that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everyon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n the Internet can see it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will have to change its “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permission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asiest way: every time you make a new file, go to the Secure Shell window and type in “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publis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371600" y="4419720"/>
            <a:ext cx="566748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t’s Set Up Your Printers!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43000" y="2017440"/>
            <a:ext cx="647712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he printers in the building are connected toge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have to tell your computer that we want to use the printer in MC-23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nting costs 5 cents/p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get $15.00 of free print quo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fund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inting PDF Fi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3000" y="2017440"/>
            <a:ext cx="731520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print the PDF tutorial properly in the lab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 the PDF docu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on Fil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t a checkmark beside “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rint As Im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inting PDF Fi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52480" y="1905120"/>
            <a:ext cx="524844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Your TA is Co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3000" y="2017440"/>
            <a:ext cx="647712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bout me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’s student in Computer Sc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erience working at I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d my undergrad right here at Wes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y email: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kssidhu@uwo.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fice hours: Mondays 11:30am-1:30pm, in MC-2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bout the tutorials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2017440"/>
            <a:ext cx="678168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dance is manda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th 10% of your final 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1 tutorials in total (1 per wee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the “best” 10 tutorial marks will cou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you finish the tutorial, you get full ma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torial material *will* be on the ex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ere to do assignment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labs have all software for this course insta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C-23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C-23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GenLabs have Photoshop and Dreamweaver install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NCB-10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UC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older versions of Photoshop, Dreamweaver, Flash fine to use for assignments (e.g. from ho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ask us first about your specific version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 </a:t>
            </a:r>
            <a:r>
              <a:rPr b="0" lang="en-US" sz="4400" spc="-1" strike="noStrike">
                <a:solidFill>
                  <a:srgbClr val="333399"/>
                </a:solidFill>
                <a:latin typeface="Wingdings"/>
                <a:ea typeface="Wingdings"/>
              </a:rPr>
              <a:t>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43000" y="2017440"/>
            <a:ext cx="647712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stions will be multiple choic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nt be anything hard (like the exact keystroke combination to do something, or how to spell Vivi’s last nam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xample: Which of the following is a common image file forma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P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e of the abo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TML and Websi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2017440"/>
            <a:ext cx="647712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one us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MySpa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MSN Spa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’re like “coloring books”, as everything’s already done for you, and you just pick your col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teach you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TM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which is like giving you a pen so you can draw your own pi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 in this case, design a webpage exactly how you wan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te on Serv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2017440"/>
            <a:ext cx="647712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have to put the web pages we make on a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erv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: a computer that’s on all the time and connected to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ce it never gets turned off, your website will always be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eople running the servers will take care of security and computer maintenance iss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nther” and “Publish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2640" y="2017440"/>
            <a:ext cx="708660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anth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computer (“server”) that will be hosting you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ttp://www.publish.uwo.ca/~usern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address to get at your website from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means we will connect to the computer “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anth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only to upload ou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onnect to “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ublish.uwo.c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when we want to actually SEE the website o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-FT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2017440"/>
            <a:ext cx="647712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do we move our files to Panthe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FT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“File Transfer Protoco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“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stands for “Secur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2T14:42:04Z</dcterms:created>
  <dc:creator>Cole</dc:creator>
  <dc:description/>
  <dc:language>en-US</dc:language>
  <cp:lastModifiedBy>lreid</cp:lastModifiedBy>
  <dcterms:modified xsi:type="dcterms:W3CDTF">2008-09-15T15:15:38Z</dcterms:modified>
  <cp:revision>49</cp:revision>
  <dc:subject/>
  <dc:title>CS 473a &amp; 551a Requirements Engineering</dc:title>
</cp:coreProperties>
</file>