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492-22D2-46FC-BDB6-BB5DD270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D9E-A586-4527-8B4B-D62B3F6F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8EB-29F9-424F-BD57-089A2A66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EF0-CAF8-4ECE-878D-BC15B34B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24DD-78C9-47A8-972C-627CC38E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05A4-887B-4D95-9A11-9D132EC7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43D8-6D49-4B68-A097-E748016D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5395-C1D6-46E2-8922-F3376474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DACB-0E84-4B91-810B-2266EC39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4610-7923-425A-990C-5A2A3C95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B978-CDB1-4696-BACD-FFA740D3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13E-EA20-4484-A44F-42AC892E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9DFB-9E3F-46DA-8576-488DA549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0BC9-1003-4F8C-8AFA-65C88EC9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F818-5E46-4AB4-9525-77777ECE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C1F1-321F-45C5-A3DF-58BB87B4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840A-0449-48D8-8AF7-1850D8A1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4F8-9DD2-4016-B0E8-7ADCE81E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0B9-4591-4948-98A4-6507910E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FB7-4846-414B-A0AD-99A210A6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A00-679F-42D8-B0FE-2DAF9540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08C-B686-49E4-B29F-B21650B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0D7-20F3-4286-B3FC-CE5D9AFC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9E4-AE5B-4C4E-88F5-B492E6B5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2AEC-AEA3-42C7-9835-82E184499E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A623-9ADB-49C7-9648-8877781819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roduction to Anim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Flash part 1 of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71629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4 tutorials (last 2 are 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familiar with the Flash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“scene” and add objects t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ce between Shapes and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to work with a Timeline an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tion and Shape “Tween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 as SWF and in HTML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with Video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line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269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3152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me “Marker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33520" y="411804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429000" y="411804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6248520" y="4118040"/>
            <a:ext cx="2328840" cy="91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306396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blank (uncolored) rectangle indicates ther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 no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048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 empty keyfram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white circ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304812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keyframe that conta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 object (black circ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0292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last empty frame of a layer (white rectang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02920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tween is represented by an arr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02920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ashes indicate a broken tween (missing keyframe or objec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6668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00560" y="2638440"/>
            <a:ext cx="304560" cy="304920"/>
          </a:xfrm>
          <a:prstGeom prst="donut">
            <a:avLst>
              <a:gd name="adj" fmla="val 109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00640" y="2847960"/>
            <a:ext cx="304920" cy="304920"/>
          </a:xfrm>
          <a:prstGeom prst="donut">
            <a:avLst>
              <a:gd name="adj" fmla="val 104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81280" y="4600440"/>
            <a:ext cx="304920" cy="304920"/>
          </a:xfrm>
          <a:prstGeom prst="donut">
            <a:avLst>
              <a:gd name="adj" fmla="val 114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52960" y="4357800"/>
            <a:ext cx="1371600" cy="380880"/>
          </a:xfrm>
          <a:prstGeom prst="donut">
            <a:avLst>
              <a:gd name="adj" fmla="val 4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343400"/>
            <a:ext cx="1371600" cy="380880"/>
          </a:xfrm>
          <a:prstGeom prst="donut">
            <a:avLst>
              <a:gd name="adj" fmla="val 4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71629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ate the “History” Featu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 &gt; Other Panels &gt; Hist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22T00:41:37Z</dcterms:modified>
  <cp:revision>73</cp:revision>
  <dc:subject/>
  <dc:title>CS 473a &amp; 551a Requirements Engineering</dc:title>
</cp:coreProperties>
</file>