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9EB-3ECC-470A-87E0-A530EE9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5CA-E2DD-426F-8A77-7A473AB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E4E-835F-47DA-AE65-A2F92BF4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C11-AB3C-48E3-AA88-9014F96B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ECE6-81F5-42BE-ABE6-8943C029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5F34-BBB6-469E-BCAF-3E2E6945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AB0-4F66-4DBB-A41B-52021073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1153-8A61-442F-938C-44CB3FED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DAE5-75D1-41E8-AAD3-A20CCD4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4CB7-579E-4990-BC61-9ABDBF03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0300-3F68-4D1B-B4A7-4B9DF22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41D-0444-403A-AEDE-AD65EDE4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FED-50D5-4680-9DE3-BB02EED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BCD4-FD51-4B37-98C8-2420EC9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BE70-EC85-4826-AEC5-0498899B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39E0-1AEB-441F-A7CD-7E20F91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DA7-6339-400D-A6ED-3EBF85EA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31F-9916-4C4D-9904-C28FFAC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998-98BE-4EAD-B385-B90D385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1B5-C0E6-48B0-9456-4CBFF02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9AD-70BB-4899-B6B3-9E8C0A5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78D-5DCF-4A68-B56A-2D01156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AF7-2E64-46F8-8ED9-1822A63A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CA8-3333-4B72-9485-3B8D598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D6E-16F6-4332-A9DD-177E975A5F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3FA-CA7F-46B6-A979-35DA2DEB9B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vies and Slideshows wit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Movie 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Movie Ma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create sideshows and movies from sourc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files”: the images and movie clips that you use as a “starting poin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g-and-drop interface makes making movies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d on your home Windows PC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ndows ME, XP, and Vi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torials 2 &amp; 3 will be mar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Movie Maker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slidesh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movies with s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add text and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tim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vie Mak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5680" y="1878120"/>
            <a:ext cx="605952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Movie Mak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6705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vies and slideshows you make are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je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SWM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al source files are NOT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files aren’t even copied into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roject” is really just a “list of instructions” on how the various clips will be put together to make it “look” like a mov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once you start working on a Pro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move/alter/delete the original source fil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copy it elsewhere, you must ALSO copy the original source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Exporting a Mov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6705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“export” a movie, you save it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ndows Media Video)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 copy in the source fil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a WMV movie does NOT need the original fil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you cant undo or further modify these files any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9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files from the “Instructors Are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up Movie 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r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Program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ows Movie 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9T20:33:24Z</dcterms:modified>
  <cp:revision>64</cp:revision>
  <dc:subject/>
  <dc:title>CS 473a &amp; 551a Requirements Engineering</dc:title>
</cp:coreProperties>
</file>