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E07-54EA-48E0-B2F3-C84897B5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A98-AE6C-417A-94F3-C2BD9CE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58D-3EF0-4A17-8D68-73978A86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F6E-5DD9-4D68-8E2E-1D009246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F32E-E892-41B7-8C84-3C025019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6B0-76A2-4D96-8B3D-249B9A8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A2E-C255-449B-AEE1-F90EFF81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8B69-0898-4B3D-A59A-4B079A9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234F-37A8-48BF-91F4-D391484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C6EA-8AFB-4396-A8AF-FBE9BDE9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4ADF-C864-4FAD-A58D-E0F57667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7DA-9910-4BF9-9E2E-ECA1908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ED0A-F172-4489-B53D-EE65A69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29A-5F0D-4B75-904F-561CC9D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9AC8-06C5-47D4-8178-CC2CBED2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FECB-09F2-41EF-9AB4-90DA00EE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E8FD-9CBE-4E49-84FD-F0F86D07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B46-F076-47CD-A684-7E0503B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052-513A-4BD9-9B7C-F580957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126-7351-4EF0-927A-F90EF242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93C-464C-40E6-A0FA-348F38E4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879-E302-40BF-A90E-D129E14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F79-BB91-4EC0-9A20-6F266E7E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733-AEE0-463A-8D50-507BEFC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16FB-88B1-4245-9B9D-3EA553A47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F740-4ACE-4839-8D89-A74152567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eamweaver,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5 tutorials (unmarked) and 1 exercise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 images in web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webpage backgr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ordered and unorder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a webpage can show up differently in different 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links to elements within a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links to other web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EFORE YOU STAR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week, we set up multiple DW projects (called “Site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st week’s Sites with new material,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ing the material (in folders) from the Instructor’s Area (L:) to your Z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ing the Dreamweaver Sites about the new material (fold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st be done BEFORE you open DW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 if you already opened DW, close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34160" y="5410080"/>
            <a:ext cx="714240" cy="107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52960" y="5562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24800" y="4405320"/>
            <a:ext cx="771480" cy="9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5296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85716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3600" y="3657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705720" y="2743200"/>
            <a:ext cx="914400" cy="87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52960" y="2895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781680" y="1828800"/>
            <a:ext cx="700200" cy="800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52960" y="1905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Structure (from last wee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76720" y="3581280"/>
          <a:ext cx="5760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581280"/>
                    <a:ext cx="57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228600" y="3537000"/>
            <a:ext cx="2303640" cy="73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38280" y="36576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657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733920"/>
            <a:ext cx="609840" cy="1522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152280" cy="281952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981080"/>
            <a:ext cx="152280" cy="990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952880"/>
            <a:ext cx="4800600" cy="116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Gray: content unchanged from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: content updated from last week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6920" y="3581280"/>
          <a:ext cx="41112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3581280"/>
                    <a:ext cx="41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Sit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7816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“Sites” are just “shortcuts” to a folder on your hard d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keeping the same DW Sites, but changing the folder they link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W Sites will now point to the lab05 folder (instead of lab04 fold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alt” vs. “title” tex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lternative” tex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on-visual browsers (e.g. visually impai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when “display images” is 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show up when you “hover” over an image in IE, bu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Firefo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alt” vs. “title” tex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itle” tex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s up when you “hover” over an image for both I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refo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provide information for non-visual browsers, or when “display images” are 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6T00:14:12Z</dcterms:modified>
  <cp:revision>62</cp:revision>
  <dc:subject/>
  <dc:title>CS 473a &amp; 551a Requirements Engineering</dc:title>
</cp:coreProperties>
</file>