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1BA-3F5F-4543-ADE6-1B3A7786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E45F-10BE-4796-AA59-A4BEA9C1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14E-39A5-4EB1-A0D8-FDDE1600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306-5B86-417C-8198-AE5B57F5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668F-5A09-47A2-A8F5-28D3A6D8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91AA-6749-4501-98A1-985993AC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66BF-07CC-48D5-B29A-CB3429D0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AF1B-DB0D-4ABA-B64A-C678BF77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1BAD-5AE6-4036-BD8F-378033D1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4218-9F7B-468A-8C7D-66BD9727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ED10-6565-496D-A69F-4B9896DE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15D-65FC-4920-B6BD-8FB28B07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9550-50E9-4FFB-9B1D-CDE3A62B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9CEC-E94B-436D-A554-BA60439B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571A-B681-47A5-88E6-12B7A3BD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32F9-531A-4C36-AF31-1691E48D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798A-3BD1-4E0D-89B7-5F1F3632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9C6-889F-426C-8F89-595346A5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2C4C-6612-498C-95F7-D8FA8E7B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201C-1D75-4BA9-8F40-681BD792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FA22-54CC-4292-AEF4-B0B51A2E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2D6A-E7A5-4C00-B0F9-96F16300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9684-4B01-4A79-8A16-7B22E708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E37-5218-45FA-B17D-CB9BD7E3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0433-89CE-4F24-B56B-7D36D10BE1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C2B3-0832-4995-A415-61B95DEF95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yvlab.uwo.ca/" TargetMode="External"/><Relationship Id="rId2" Type="http://schemas.openxmlformats.org/officeDocument/2006/relationships/hyperlink" Target="http://myvlab.uwo.ca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03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42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torial 2 – Image 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age Editing with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obe Photoshop CS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47712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learn and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 many of the features of more powerful graphics pack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y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can use Photoshop 8 (previous version) for free at home throug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yvlab.uwo.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hotoshop 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47712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de up of 4 Exerci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2 pages of the tutorial shows end product for each exerc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 to it during the exercis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rcise is step-by-step and builds on the previous exerc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Exercise 4 will be gra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s 1-3 teach you the skills complete i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47712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rcise starts with an original imag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ackground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item we add to the image will be added to 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ew lay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t sits “on top” of the background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eans we wont change the original picture, ju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i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even control which layers should appear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25146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ackground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ew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548640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Background + New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2154240" cy="4800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71600" y="3352680"/>
            <a:ext cx="2286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5003640"/>
            <a:ext cx="2286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 on the 2 Fil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47712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.PSD fi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dobe Photoshop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ains all the information for the image you edi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keeps all the layers separ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need Photoshop to look at these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.GIF fi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raphics Interchange Format fil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versal” files that can be read on any computer (don’t need Photosho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keep the layers separated, but irreversibly “mashes” them all toge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 Not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47712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fore you leave, please log off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whoever sits at your computer next c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up all your printer quo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 your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my personal pet peev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rrange your icons 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torial 2 –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64771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 out the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the folder “lab02” from the “Instructors Area” to your Z:\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ors Area: You set this up to be “L:\” in Lab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also get at Instructors Area by opening any folder, and where it says “Address”, type i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\\koala\Courses\cs0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luck!!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4:42:04Z</dcterms:created>
  <dc:creator>Cole</dc:creator>
  <dc:description/>
  <dc:language>en-US</dc:language>
  <cp:lastModifiedBy>Cole</cp:lastModifiedBy>
  <dcterms:modified xsi:type="dcterms:W3CDTF">2007-07-31T04:26:21Z</dcterms:modified>
  <cp:revision>45</cp:revision>
  <dc:subject/>
  <dc:title>CS 473a &amp; 551a Requirements Engineering</dc:title>
</cp:coreProperties>
</file>