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C6B-6669-4447-946A-0DB4C56F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1AB-E22D-476C-AD86-32997787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893-3461-4B84-83C0-5E6E2698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956-CA4A-4BDA-A0E0-A2D09553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961-6343-4136-89A5-F83323C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07E-912E-4C14-B6EC-91FFEFB1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75D-5BFB-44A0-8AD2-FAADD9E9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630-C04D-4AAC-999A-80584057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ACC-94B9-4D85-84D3-28E4D3A1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79E-65F7-44DE-BAE5-BDF4A33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E21-8D2F-4BEB-AE42-E4BD406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425-8932-4241-838E-E4FD1AA8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ffff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ffff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D6AD-57C4-469F-B805-F798D836CF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ubPieSlice"/>
          <p:cNvSpPr/>
          <p:nvPr/>
        </p:nvSpPr>
        <p:spPr>
          <a:xfrm rot="8004000">
            <a:off x="107640" y="692280"/>
            <a:ext cx="676080" cy="67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b0096"/>
              </a:gs>
              <a:gs pos="100000">
                <a:srgbClr val="22004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36600" y="5229360"/>
            <a:ext cx="216000" cy="21564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36600" y="4653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36600" y="407664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36600" y="3500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36600" y="2924280"/>
            <a:ext cx="216000" cy="21564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336600" y="2349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" name=""/>
          <p:cNvGrpSpPr/>
          <p:nvPr/>
        </p:nvGrpSpPr>
        <p:grpSpPr>
          <a:xfrm>
            <a:off x="157320" y="6008760"/>
            <a:ext cx="576000" cy="647640"/>
            <a:chOff x="157320" y="6008760"/>
            <a:chExt cx="576000" cy="647640"/>
          </a:xfrm>
        </p:grpSpPr>
        <p:sp>
          <p:nvSpPr>
            <p:cNvPr id="26" name=""/>
            <p:cNvSpPr/>
            <p:nvPr/>
          </p:nvSpPr>
          <p:spPr>
            <a:xfrm rot="5400000">
              <a:off x="142920" y="6260400"/>
              <a:ext cx="576360" cy="215640"/>
            </a:xfrm>
            <a:prstGeom prst="flowChartOnlineStorag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" name=""/>
            <p:cNvGrpSpPr/>
            <p:nvPr/>
          </p:nvGrpSpPr>
          <p:grpSpPr>
            <a:xfrm>
              <a:off x="157320" y="6008760"/>
              <a:ext cx="576000" cy="647640"/>
              <a:chOff x="157320" y="6008760"/>
              <a:chExt cx="576000" cy="647640"/>
            </a:xfrm>
          </p:grpSpPr>
          <p:sp>
            <p:nvSpPr>
              <p:cNvPr id="28" name=""/>
              <p:cNvSpPr/>
              <p:nvPr/>
            </p:nvSpPr>
            <p:spPr>
              <a:xfrm rot="5400000">
                <a:off x="121320" y="6044400"/>
                <a:ext cx="647640" cy="57600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2f00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" name=""/>
              <p:cNvGrpSpPr/>
              <p:nvPr/>
            </p:nvGrpSpPr>
            <p:grpSpPr>
              <a:xfrm>
                <a:off x="277560" y="6148440"/>
                <a:ext cx="144360" cy="144000"/>
                <a:chOff x="277560" y="6148440"/>
                <a:chExt cx="144360" cy="144000"/>
              </a:xfrm>
            </p:grpSpPr>
            <p:sp>
              <p:nvSpPr>
                <p:cNvPr id="30" name=""/>
                <p:cNvSpPr/>
                <p:nvPr/>
              </p:nvSpPr>
              <p:spPr>
                <a:xfrm>
                  <a:off x="277560" y="6148440"/>
                  <a:ext cx="14436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3920" y="6190920"/>
                  <a:ext cx="73080" cy="72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" name=""/>
              <p:cNvGrpSpPr/>
              <p:nvPr/>
            </p:nvGrpSpPr>
            <p:grpSpPr>
              <a:xfrm>
                <a:off x="492120" y="6149880"/>
                <a:ext cx="144000" cy="144000"/>
                <a:chOff x="492120" y="6149880"/>
                <a:chExt cx="144000" cy="144000"/>
              </a:xfrm>
            </p:grpSpPr>
            <p:sp>
              <p:nvSpPr>
                <p:cNvPr id="33" name=""/>
                <p:cNvSpPr/>
                <p:nvPr/>
              </p:nvSpPr>
              <p:spPr>
                <a:xfrm>
                  <a:off x="492120" y="6149880"/>
                  <a:ext cx="14400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528120" y="6192360"/>
                  <a:ext cx="72720" cy="72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2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3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ffff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ffff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ubPieSlice"/>
          <p:cNvSpPr/>
          <p:nvPr/>
        </p:nvSpPr>
        <p:spPr>
          <a:xfrm rot="8004000">
            <a:off x="107640" y="692280"/>
            <a:ext cx="676080" cy="67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b0096"/>
              </a:gs>
              <a:gs pos="100000">
                <a:srgbClr val="22004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57320" y="6008760"/>
            <a:ext cx="576000" cy="647640"/>
            <a:chOff x="157320" y="6008760"/>
            <a:chExt cx="576000" cy="647640"/>
          </a:xfrm>
        </p:grpSpPr>
        <p:sp>
          <p:nvSpPr>
            <p:cNvPr id="90" name=""/>
            <p:cNvSpPr/>
            <p:nvPr/>
          </p:nvSpPr>
          <p:spPr>
            <a:xfrm rot="5400000">
              <a:off x="142920" y="6260400"/>
              <a:ext cx="576360" cy="215640"/>
            </a:xfrm>
            <a:prstGeom prst="flowChartOnlineStorag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57320" y="6008760"/>
              <a:ext cx="576000" cy="647640"/>
              <a:chOff x="157320" y="6008760"/>
              <a:chExt cx="576000" cy="647640"/>
            </a:xfrm>
          </p:grpSpPr>
          <p:sp>
            <p:nvSpPr>
              <p:cNvPr id="92" name=""/>
              <p:cNvSpPr/>
              <p:nvPr/>
            </p:nvSpPr>
            <p:spPr>
              <a:xfrm rot="5400000">
                <a:off x="121320" y="6044400"/>
                <a:ext cx="647640" cy="57600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2f00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277560" y="6148440"/>
                <a:ext cx="144360" cy="144000"/>
                <a:chOff x="277560" y="6148440"/>
                <a:chExt cx="144360" cy="1440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77560" y="6148440"/>
                  <a:ext cx="14436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13920" y="6190920"/>
                  <a:ext cx="73080" cy="72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92120" y="6149880"/>
                <a:ext cx="144000" cy="144000"/>
                <a:chOff x="492120" y="6149880"/>
                <a:chExt cx="144000" cy="1440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2120" y="6149880"/>
                  <a:ext cx="14400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28120" y="6192360"/>
                  <a:ext cx="72720" cy="72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9" name=""/>
          <p:cNvSpPr/>
          <p:nvPr/>
        </p:nvSpPr>
        <p:spPr>
          <a:xfrm>
            <a:off x="336600" y="5229360"/>
            <a:ext cx="216000" cy="21564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6600" y="4653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6600" y="407664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6600" y="3500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6600" y="2924280"/>
            <a:ext cx="216000" cy="21564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6600" y="2349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148280" y="6438960"/>
            <a:ext cx="181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ience: 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90800" y="643896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rporate:  Stone 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3640" y="6438960"/>
            <a:ext cx="51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alth:  Pulse!!  The Virtual Clinic Learning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13080" y="644040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ial Change:  Darfur is D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49880" y="643896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litary:  Future Force Company Comma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43880" y="643896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tertainment:  World of Warcr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3040" y="6440400"/>
            <a:ext cx="53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ience and Social Science:  World of Warcraft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82360" y="643896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ducation:  Sloodle (Second Life &amp; Mood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78360" y="643896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rst Responders:  Hazmat Hot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6480" y="643896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vernment:  Food Fo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6480" y="231840"/>
            <a:ext cx="82375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laying for Keeps:</a:t>
            </a:r>
            <a:br>
              <a:rPr sz="44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Virtual Worlds in a Digital Ag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20955000">
            <a:off x="1193760" y="2465280"/>
            <a:ext cx="3730680" cy="2799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949400" y="3373560"/>
            <a:ext cx="4073400" cy="2800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rot="807000">
            <a:off x="2599920" y="3308400"/>
            <a:ext cx="3848040" cy="2670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 rot="21127200">
            <a:off x="4411800" y="2831760"/>
            <a:ext cx="3917880" cy="2938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 rot="1177200">
            <a:off x="4383000" y="2571840"/>
            <a:ext cx="4392720" cy="2411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 rot="21451800">
            <a:off x="4876920" y="3638520"/>
            <a:ext cx="3965400" cy="2478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 rot="630000">
            <a:off x="1296720" y="2421000"/>
            <a:ext cx="3506760" cy="2633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sled-oct18-2006-86.jpg"/>
          <p:cNvPicPr/>
          <p:nvPr/>
        </p:nvPicPr>
        <p:blipFill>
          <a:blip r:embed="rId8"/>
          <a:stretch/>
        </p:blipFill>
        <p:spPr>
          <a:xfrm rot="20831400">
            <a:off x="2668320" y="2328840"/>
            <a:ext cx="3759120" cy="300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 rot="622200">
            <a:off x="4576320" y="2661840"/>
            <a:ext cx="4156200" cy="33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17 0.4537 L 8.33333E-007 -7.03704E-006 E">
                                      <p:cBhvr>
                                        <p:cTn id="6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 0.5 L 4.72222E-006 -2.59259E-006 E">
                                      <p:cBhvr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5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3 0.52408 L -1.66667E-006 7.77778E-006 E">
                                      <p:cBhvr>
                                        <p:cTn id="37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6 0.65556 L 3.61111E-006 7.03704E-006 E">
                                      <p:cBhvr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17 0.47223 L 3.33333E-006 8.88889E-006 E">
                                      <p:cBhvr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0.00556 L 4.72222E-006 -1.11111E-006 E">
                                      <p:cBhvr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2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6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556 -0.14444 L -5.27778E-006 -2.22222E-006 E">
                                      <p:cBhvr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67222 L -7.5E-006 -6.66667E-006 E">
                                      <p:cBhvr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722 -0.22593 L -3.33333E-006 -1.11111E-006 E">
                                      <p:cBhvr>
                                        <p:cTn id="133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18:05:27Z</dcterms:created>
  <dc:creator>Michael Katchabaw</dc:creator>
  <dc:description/>
  <dc:language>en-US</dc:language>
  <cp:lastModifiedBy>Michael Katchabaw</cp:lastModifiedBy>
  <dcterms:modified xsi:type="dcterms:W3CDTF">2008-05-02T01:50:23Z</dcterms:modified>
  <cp:revision>1240</cp:revision>
  <dc:subject/>
  <dc:title>Slide 1</dc:title>
</cp:coreProperties>
</file>