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6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ffff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ffff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ubPieSlice"/>
          <p:cNvSpPr/>
          <p:nvPr/>
        </p:nvSpPr>
        <p:spPr>
          <a:xfrm rot="8004000">
            <a:off x="107640" y="692280"/>
            <a:ext cx="676080" cy="67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b0096"/>
              </a:gs>
              <a:gs pos="100000">
                <a:srgbClr val="2200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6600" y="5229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366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36600" y="4076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36600" y="3500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36600" y="292428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36600" y="234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" name=""/>
          <p:cNvGrpSpPr/>
          <p:nvPr/>
        </p:nvGrpSpPr>
        <p:grpSpPr>
          <a:xfrm>
            <a:off x="157320" y="6008760"/>
            <a:ext cx="576000" cy="647640"/>
            <a:chOff x="157320" y="6008760"/>
            <a:chExt cx="576000" cy="647640"/>
          </a:xfrm>
        </p:grpSpPr>
        <p:sp>
          <p:nvSpPr>
            <p:cNvPr id="25" name=""/>
            <p:cNvSpPr/>
            <p:nvPr/>
          </p:nvSpPr>
          <p:spPr>
            <a:xfrm rot="5400000">
              <a:off x="142920" y="6260400"/>
              <a:ext cx="576360" cy="215640"/>
            </a:xfrm>
            <a:prstGeom prst="flowChartOnlineStorag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" name=""/>
            <p:cNvGrpSpPr/>
            <p:nvPr/>
          </p:nvGrpSpPr>
          <p:grpSpPr>
            <a:xfrm>
              <a:off x="157320" y="6008760"/>
              <a:ext cx="576000" cy="647640"/>
              <a:chOff x="157320" y="6008760"/>
              <a:chExt cx="576000" cy="647640"/>
            </a:xfrm>
          </p:grpSpPr>
          <p:sp>
            <p:nvSpPr>
              <p:cNvPr id="27" name=""/>
              <p:cNvSpPr/>
              <p:nvPr/>
            </p:nvSpPr>
            <p:spPr>
              <a:xfrm rot="5400000">
                <a:off x="121320" y="6044400"/>
                <a:ext cx="647640" cy="57600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277560" y="6148440"/>
                <a:ext cx="144360" cy="144000"/>
                <a:chOff x="277560" y="6148440"/>
                <a:chExt cx="144360" cy="14400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277560" y="6148440"/>
                  <a:ext cx="14436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13920" y="6190920"/>
                  <a:ext cx="7308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492120" y="6149880"/>
                <a:ext cx="144000" cy="144000"/>
                <a:chOff x="492120" y="6149880"/>
                <a:chExt cx="144000" cy="1440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492120" y="6149880"/>
                  <a:ext cx="14400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528120" y="6192360"/>
                  <a:ext cx="7272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ffff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ffff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ubPieSlice"/>
          <p:cNvSpPr/>
          <p:nvPr/>
        </p:nvSpPr>
        <p:spPr>
          <a:xfrm rot="8004000">
            <a:off x="107640" y="692280"/>
            <a:ext cx="676080" cy="67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b0096"/>
              </a:gs>
              <a:gs pos="100000">
                <a:srgbClr val="2200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320" y="6008760"/>
            <a:ext cx="576000" cy="647640"/>
            <a:chOff x="157320" y="6008760"/>
            <a:chExt cx="576000" cy="647640"/>
          </a:xfrm>
        </p:grpSpPr>
        <p:sp>
          <p:nvSpPr>
            <p:cNvPr id="89" name=""/>
            <p:cNvSpPr/>
            <p:nvPr/>
          </p:nvSpPr>
          <p:spPr>
            <a:xfrm rot="5400000">
              <a:off x="142920" y="6260400"/>
              <a:ext cx="576360" cy="215640"/>
            </a:xfrm>
            <a:prstGeom prst="flowChartOnlineStorag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57320" y="6008760"/>
              <a:ext cx="576000" cy="647640"/>
              <a:chOff x="157320" y="6008760"/>
              <a:chExt cx="576000" cy="647640"/>
            </a:xfrm>
          </p:grpSpPr>
          <p:sp>
            <p:nvSpPr>
              <p:cNvPr id="91" name=""/>
              <p:cNvSpPr/>
              <p:nvPr/>
            </p:nvSpPr>
            <p:spPr>
              <a:xfrm rot="5400000">
                <a:off x="121320" y="6044400"/>
                <a:ext cx="647640" cy="57600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277560" y="6148440"/>
                <a:ext cx="144360" cy="144000"/>
                <a:chOff x="277560" y="6148440"/>
                <a:chExt cx="144360" cy="14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6148440"/>
                  <a:ext cx="14436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13920" y="6190920"/>
                  <a:ext cx="7308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92120" y="6149880"/>
                <a:ext cx="144000" cy="144000"/>
                <a:chOff x="492120" y="6149880"/>
                <a:chExt cx="144000" cy="14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92120" y="6149880"/>
                  <a:ext cx="14400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8120" y="6192360"/>
                  <a:ext cx="7272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" name=""/>
          <p:cNvSpPr/>
          <p:nvPr/>
        </p:nvSpPr>
        <p:spPr>
          <a:xfrm>
            <a:off x="336600" y="5229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6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600" y="4076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600" y="3500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6600" y="292428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6600" y="234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assassins_creed_1.m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assassins_creed_1.mpg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 Virtual Worl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ld without a physical manife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a computer-based simulated environment of some k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might be model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real world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not necessar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ight, Madis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uare Garde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real and vir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1240" y="3816360"/>
            <a:ext cx="3557520" cy="2863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23040" y="3809880"/>
            <a:ext cx="3543120" cy="2857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78040" y="1955880"/>
            <a:ext cx="6134040" cy="4152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listic Charac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777680" y="621648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from Assassin’s Creed, which boasted the best 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acter behaviour when released in late 2007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8546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listic Charac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taking a psychosocial approach to modeling and creating characters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ue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on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then use principles of emergence to have behaviour flow naturally from t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016600" y="3044880"/>
            <a:ext cx="3335400" cy="2616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16600" y="3035160"/>
            <a:ext cx="332748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listic Charac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have been very good, allow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to capture a variety of behavi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now in the process of embed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mergen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oach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ur in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 system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virtual wor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902120" y="3767040"/>
            <a:ext cx="1943280" cy="2692440"/>
            <a:chOff x="4902120" y="3767040"/>
            <a:chExt cx="1943280" cy="26924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4916520" y="3767040"/>
              <a:ext cx="192888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902120" y="3771720"/>
              <a:ext cx="1943280" cy="267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959520" y="3767040"/>
            <a:ext cx="1943280" cy="2692440"/>
            <a:chOff x="6959520" y="3767040"/>
            <a:chExt cx="1943280" cy="269244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6973920" y="3767040"/>
              <a:ext cx="192888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959520" y="3771720"/>
              <a:ext cx="1943280" cy="267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al of this research is to mod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cial networks of populations in virtual wor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influen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ur, a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l as the flow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evolution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in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929120" y="3411360"/>
            <a:ext cx="4024440" cy="300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have also been quite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earch is being integrated into our emergent character behaviours as the two are very 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ty and emotional state affect our social network and our communication with others in our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s of our social network can have great influence over our behaviour, depending o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Story Generation and Enac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and backstory can play a crucial role to some virtual wor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quently, there can be a need to both generate story content and to have it enacte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doing so is not easy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Story Generation and Enac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654480" y="6216480"/>
            <a:ext cx="83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other video from Assassin’s Creed.  With such a large world a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ce, it is a shame you cannot interact with people in a meaningful 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17220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8377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Story Generation and Enac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our current research is aimed at modeling story and backstory to allow us to automatically generate it through the recursive application of story templ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ssence, by asking the right questions and getting the right information, we can start to fill in story where it is missing and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Story Generation and Enac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ther research in this area studies automated story enacting from scri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scripts can b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hand by a wri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through tools by a wri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matically generated by a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to date look quite good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Story Generation and Enac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2"/>
          </p:cNvPr>
          <p:cNvSpPr/>
          <p:nvPr/>
        </p:nvSpPr>
        <p:spPr>
          <a:xfrm>
            <a:off x="1655640" y="6140520"/>
            <a:ext cx="62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from reenactment of Trauma Center:  Second Opin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ing our Reusable Storytelling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040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s of Virtual Wor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many uses to virtual worlds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respond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ch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98920" y="3187800"/>
            <a:ext cx="4473720" cy="3043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95680" y="3187800"/>
            <a:ext cx="4445280" cy="302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Story Generation and Enac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>
            <a:hlinkClick r:id="rId1"/>
          </p:cNvPr>
          <p:cNvSpPr/>
          <p:nvPr/>
        </p:nvSpPr>
        <p:spPr>
          <a:xfrm>
            <a:off x="1655640" y="614052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from reenactment of Metal Gear Soli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ing our Reusable Storytelling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09556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7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Algorithm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sic Composi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892160"/>
            <a:ext cx="80773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many recognized outstanding issues in music in virtual worl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compositions that are looped or repeated throughout a (long) session can become quite tires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is, at times, disconnected from the events unfolding in the world, particularly in open ended, non-linear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ensing music or hiring talent can be prohibitively expensive, particularly for small or medium sized enterpris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Algorithm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sic Composi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892160"/>
            <a:ext cx="80773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ive automatic composition systems can alleviate or address these issu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less new compositions can be composed dynamically throughout a session without any re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can be adapted to the current emotional context of the virtu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 composed by a computer is not rights encumbered and can be more cost 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Algorithm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sic Composi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92160"/>
            <a:ext cx="81532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his end, we developed the Algorithmic Music Evolution Engine (AM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and extensible architecture that can impose as much or as little structuring to music as des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reuse existing musical elements or compose them entirely from scra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incorporate emotional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-level API to support a range of users with varying musical and technical expert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 Algorithm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sic Composi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892160"/>
            <a:ext cx="44704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only just begun to scratch the surface with what we can do with AM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development and user testing (novice and expert) is still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6318360" y="2235240"/>
            <a:ext cx="0" cy="394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6197760"/>
            <a:ext cx="177840" cy="177480"/>
          </a:xfrm>
          <a:prstGeom prst="ellipse">
            <a:avLst/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9440" y="4194000"/>
            <a:ext cx="177840" cy="177840"/>
          </a:xfrm>
          <a:prstGeom prst="ellipse">
            <a:avLst/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9440" y="2171880"/>
            <a:ext cx="177840" cy="177480"/>
          </a:xfrm>
          <a:prstGeom prst="ellipse">
            <a:avLst/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29440" y="3178080"/>
            <a:ext cx="177840" cy="177840"/>
          </a:xfrm>
          <a:prstGeom prst="ellipse">
            <a:avLst/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9440" y="5219640"/>
            <a:ext cx="177840" cy="177840"/>
          </a:xfrm>
          <a:prstGeom prst="ellipse">
            <a:avLst/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09520" y="4098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42640" y="5124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94400" y="61023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pon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26080" y="30830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9240" y="2076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518240" y="413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124760" y="515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950240" y="6134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416720" y="3114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7353360" y="2108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0469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989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72960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947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2836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irtual Worlds Research Wrap 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still many open research problems in the area of virtual worl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variety of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ing the potential applications of virtual worlds, there is great value in this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a result, there are many interesting opportunities for new researchers 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are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98680" y="3591000"/>
            <a:ext cx="4152960" cy="3114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Virtual Wor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days, virtual worlds are built using largely the design principles, tools, and techniques as computer and video 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074280" y="4946760"/>
            <a:ext cx="27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of Epic’s Unrea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3581280"/>
            <a:ext cx="415296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39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purposing Virtual Wor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lso a growing interest in using existing virtual worlds for other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3141720"/>
            <a:ext cx="4686480" cy="3514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3880" y="3149640"/>
            <a:ext cx="46738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64000" y="3841920"/>
            <a:ext cx="279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from World of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rcraft, sh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kkar’s Corrupt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ood plague in action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ch scientists are n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dying as a mode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pidemics a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ectious dis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330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purposing Virtual Wor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lso a growing interest in using existing virtual worlds for other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7267680" y="3740040"/>
            <a:ext cx="1876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deo from Grand Theft Auto IV.  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sible foundation f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w enforc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ining in th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14520" y="3322800"/>
            <a:ext cx="5762520" cy="3243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98680" y="3327480"/>
            <a:ext cx="5790960" cy="323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903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irtual World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at Weste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many disciplines at Western with research potential in virtual worlds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Sc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hrop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035160"/>
            <a:ext cx="4419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logical Sc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irtual World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at Weste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mputer Science, we are most interested the creation of virtual worlds, from a technological persp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, implementation, and evaluation of application logic, engines, and other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ther words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better virtual 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virtual worlds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13400" y="4889520"/>
            <a:ext cx="2572920" cy="1453680"/>
            <a:chOff x="6413400" y="4889520"/>
            <a:chExt cx="2572920" cy="14536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0" t="12295" r="0" b="13886"/>
            <a:stretch/>
          </p:blipFill>
          <p:spPr>
            <a:xfrm>
              <a:off x="6419880" y="4889520"/>
              <a:ext cx="2566440" cy="14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13400" y="4889520"/>
              <a:ext cx="2565000" cy="144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irtual World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at Weste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54000"/>
            <a:ext cx="807732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mputer Science at Western, research in virtual worlds inclu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 charac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networ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y generation and enac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orithmic music com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much more for another time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NSERC"/>
          <p:cNvPicPr/>
          <p:nvPr/>
        </p:nvPicPr>
        <p:blipFill>
          <a:blip r:embed="rId1"/>
          <a:stretch/>
        </p:blipFill>
        <p:spPr>
          <a:xfrm>
            <a:off x="2379600" y="5681520"/>
            <a:ext cx="1390680" cy="5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74" name=""/>
          <p:cNvGrpSpPr/>
          <p:nvPr/>
        </p:nvGrpSpPr>
        <p:grpSpPr>
          <a:xfrm>
            <a:off x="2070000" y="6362640"/>
            <a:ext cx="2011320" cy="330120"/>
            <a:chOff x="2070000" y="6362640"/>
            <a:chExt cx="2011320" cy="330120"/>
          </a:xfrm>
        </p:grpSpPr>
        <p:sp>
          <p:nvSpPr>
            <p:cNvPr id="175" name=""/>
            <p:cNvSpPr/>
            <p:nvPr/>
          </p:nvSpPr>
          <p:spPr>
            <a:xfrm>
              <a:off x="2070000" y="6362640"/>
              <a:ext cx="201132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Canadian Heritage"/>
            <p:cNvPicPr/>
            <p:nvPr/>
          </p:nvPicPr>
          <p:blipFill>
            <a:blip r:embed="rId2"/>
            <a:stretch/>
          </p:blipFill>
          <p:spPr>
            <a:xfrm>
              <a:off x="2727000" y="6403680"/>
              <a:ext cx="132732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Canadian Flag"/>
            <p:cNvPicPr/>
            <p:nvPr/>
          </p:nvPicPr>
          <p:blipFill>
            <a:blip r:embed="rId3"/>
            <a:stretch/>
          </p:blipFill>
          <p:spPr>
            <a:xfrm>
              <a:off x="2144520" y="6414840"/>
              <a:ext cx="450720" cy="2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" descr="Ontario Centres of Excellence"/>
          <p:cNvPicPr/>
          <p:nvPr/>
        </p:nvPicPr>
        <p:blipFill>
          <a:blip r:embed="rId4"/>
          <a:srcRect l="12307" t="8321" r="7807" b="6468"/>
          <a:stretch/>
        </p:blipFill>
        <p:spPr>
          <a:xfrm>
            <a:off x="4375080" y="5657760"/>
            <a:ext cx="1630440" cy="56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0" t="38647" r="0" b="39365"/>
          <a:stretch/>
        </p:blipFill>
        <p:spPr>
          <a:xfrm>
            <a:off x="4376880" y="6343560"/>
            <a:ext cx="1612800" cy="35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989760" y="5751360"/>
            <a:ext cx="604800" cy="42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6259680" y="6242040"/>
            <a:ext cx="2063520" cy="42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earch i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listic Charac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neral idea is to create a vi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 world population that acts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s in a realistic fashion depen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nds simple enough, but it is a lo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er than one may think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05:27Z</dcterms:created>
  <dc:creator>Michael Katchabaw</dc:creator>
  <dc:description/>
  <dc:language>en-US</dc:language>
  <cp:lastModifiedBy>Michael Katchabaw</cp:lastModifiedBy>
  <dcterms:modified xsi:type="dcterms:W3CDTF">2008-05-02T00:24:54Z</dcterms:modified>
  <cp:revision>1294</cp:revision>
  <dc:subject/>
  <dc:title>Slide 1</dc:title>
</cp:coreProperties>
</file>